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65F-40F0-4E4F-90B3-AD723374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6F4-16DB-4F6C-8679-F84DBA0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23E-ACE3-4D68-9494-0647820B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702-5A35-44D5-BD93-9DFFF7C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115-123C-4DFD-9B53-DFB78F01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B0A-FAC7-448F-8DBC-9716C1FE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D82-0142-4C3A-9A09-68B4CB7A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439-33D3-4659-A458-615A37FB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0A8-C5EE-4185-9935-B13035E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16C-C6AB-4824-A64D-D8D5AD3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9FE-49C0-4DD8-B10E-255E637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C8C-9BE9-4840-9D26-643F4C6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89EB-DFE3-4EF7-87EF-83F212BB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6705720"/>
            <a:ext cx="533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218600" y="3504960"/>
            <a:ext cx="53352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562000" y="3962160"/>
            <a:ext cx="5335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828440" y="761976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4771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5333400" y="7696080"/>
            <a:ext cx="457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162240" y="-3162240"/>
            <a:ext cx="53352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609480"/>
            <a:ext cx="533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480"/>
            <a:ext cx="53352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5335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638320" y="3352680"/>
            <a:ext cx="38088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2590920"/>
            <a:ext cx="533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142640" y="3429000"/>
            <a:ext cx="3812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429000"/>
            <a:ext cx="6098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9907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9907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7057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74674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64008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6095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54100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rot="1825200">
            <a:off x="685800" y="7467120"/>
            <a:ext cx="44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640" y="0"/>
            <a:ext cx="182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974920" y="572760"/>
            <a:ext cx="145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349200" y="953640"/>
            <a:ext cx="145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8618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21578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337680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672440" y="1649160"/>
            <a:ext cx="116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-369720" y="3339000"/>
            <a:ext cx="1041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5976000" y="7202160"/>
            <a:ext cx="145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- Non-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6144120" y="3225960"/>
            <a:ext cx="111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2009160" y="3778920"/>
            <a:ext cx="1465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out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494160" y="7245720"/>
            <a:ext cx="1695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 -Fic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480" y="4191120"/>
            <a:ext cx="111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9080" y="4267080"/>
            <a:ext cx="179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ters/Work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21840" y="6858000"/>
            <a:ext cx="141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7400" y="4876920"/>
            <a:ext cx="5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7120" y="4876920"/>
            <a:ext cx="5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8077320"/>
            <a:ext cx="1414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en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61120" y="5791320"/>
            <a:ext cx="59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62485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62485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632448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962800">
            <a:off x="369360" y="7783200"/>
            <a:ext cx="1092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C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80010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ethean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61120" y="2057400"/>
            <a:ext cx="59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35268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276720"/>
            <a:ext cx="82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loset/Recording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5:53:28Z</dcterms:created>
  <dc:creator>ssproul</dc:creator>
  <dc:description/>
  <dc:language>en-US</dc:language>
  <cp:lastModifiedBy>ssproul</cp:lastModifiedBy>
  <dcterms:modified xsi:type="dcterms:W3CDTF">2011-05-15T18:36:18Z</dcterms:modified>
  <cp:revision>4</cp:revision>
  <dc:subject/>
  <dc:title>Slide 1</dc:title>
</cp:coreProperties>
</file>